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C85-C8BF-420E-9888-587891AD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A28-9D96-4C45-AF33-591BD4F5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C91-BCB3-46AA-821D-7BAF16B7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E88-E6B0-4045-BC30-7D845E38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1CC-5C46-41AE-99E8-C891E20D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813-63B5-47A5-B90C-716DCE69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152-862D-4664-A987-7C0ADACA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A50-DEDE-4BEA-A46C-9E732268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428-1034-40D9-ACB6-78A8469B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9F3-40C4-4F5D-BA65-BC59197F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5DF-5EEA-49BA-9DC0-04D26C6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743-6E4B-49B7-95DA-62A1E4C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7E0B-5108-4A5B-913D-AE868903F7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Nd9GcSGJKBP0nWcyuzvgZV7hwqPq93OQdhU69JKKms1tMN3WbRwxY0&amp;t=1&amp;usg=__s_sN5diorkhRwTVFlw6KTJt3WlE="/>
          <p:cNvPicPr/>
          <p:nvPr/>
        </p:nvPicPr>
        <p:blipFill>
          <a:blip r:embed="rId1"/>
          <a:stretch/>
        </p:blipFill>
        <p:spPr>
          <a:xfrm>
            <a:off x="0" y="189000"/>
            <a:ext cx="9972720" cy="727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i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ordenadora do Projeto “Além das Palavr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55520" y="46080"/>
            <a:ext cx="11905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Nd9GcRJGTO_7MO-QCvaOw4---NYC2VT-Ri9S_QZAkEUgj5hRoEsy8I&amp;t=1&amp;usg=__iORyjraDs92cKEOcsjUMD_5Zims=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m amor, eu nada seria..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Nd9GcTdSH-S3SMrdMQI0kr13feHVGhAXIrq3TOfwmcMiZghhJk6K8E&amp;t=1&amp;usg=__DzPdltCdHI3QIiYXFZ6sHPbKR-M="/>
          <p:cNvPicPr/>
          <p:nvPr/>
        </p:nvPicPr>
        <p:blipFill>
          <a:blip r:embed="rId1"/>
          <a:stretch/>
        </p:blipFill>
        <p:spPr>
          <a:xfrm>
            <a:off x="0" y="-28440"/>
            <a:ext cx="9396360" cy="7850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...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 É só o amor, é só o amor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Que conhece o que é verdade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O amor é bom, não quer o mal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Não sente inveja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Ou se envaid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aisag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amor é o fogo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Que arde sem se ver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ferida que dói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não se sent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um contentamento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content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dor que desatina sem doer..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aisagens_01"/>
          <p:cNvPicPr/>
          <p:nvPr/>
        </p:nvPicPr>
        <p:blipFill>
          <a:blip r:embed="rId1"/>
          <a:stretch/>
        </p:blipFill>
        <p:spPr>
          <a:xfrm>
            <a:off x="0" y="-963720"/>
            <a:ext cx="9683640" cy="7461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-181080" y="259200"/>
            <a:ext cx="659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m amor, eu nada seria..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8_foto_golfinho_1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750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0" y="-462600"/>
            <a:ext cx="334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não quere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que bem quere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solitário anda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ntre a gent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não contentar-s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content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uidar que se ganh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e perder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mar"/>
          <p:cNvPicPr/>
          <p:nvPr/>
        </p:nvPicPr>
        <p:blipFill>
          <a:blip r:embed="rId1"/>
          <a:stretch/>
        </p:blipFill>
        <p:spPr>
          <a:xfrm>
            <a:off x="0" y="549360"/>
            <a:ext cx="9396360" cy="7821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3211920"/>
            <a:ext cx="8486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estar-se pres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vontad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ervir a quem venc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encedo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ter com quem nos mata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lealdad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ão contrário a si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o mesmo amor..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aisagem+8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79280" y="2831400"/>
            <a:ext cx="86472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stou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acordado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todos dormem, todos dormem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dos dormem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gora vejo em part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s então veremos face a fac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só o amor, é só o amor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Que conhece o que é verdade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aisagens Imagens De Paisagens Em Papel De Pare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2987280" y="2354760"/>
            <a:ext cx="526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m amor, eu nada seria..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44:14Z</dcterms:created>
  <dc:creator>SEDMS</dc:creator>
  <dc:description/>
  <dc:language>en-US</dc:language>
  <cp:lastModifiedBy>ACER</cp:lastModifiedBy>
  <dcterms:modified xsi:type="dcterms:W3CDTF">2010-10-19T21:55:14Z</dcterms:modified>
  <cp:revision>2</cp:revision>
  <dc:subject/>
  <dc:title>silene</dc:title>
</cp:coreProperties>
</file>